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861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91040"/>
            <a:ext cx="861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9414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9104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9104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9414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9414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910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910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910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8B62-1E02-4D81-BD22-2F742C23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41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DB87-A3B3-4C71-A62D-56C4C70E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CB2-2BCA-4782-A2F0-38580058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420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941480"/>
            <a:ext cx="420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4085-E7E3-44E8-A338-2589E5B3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65C-C3F3-4504-9A7B-E4A6BE3F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4920" y="957600"/>
            <a:ext cx="761976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C2A-9705-4C7C-B8C9-0333FD58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760" y="1941480"/>
            <a:ext cx="420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09104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779-A3A0-42A1-9EA4-0CB23BB9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41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420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760" y="19414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760" y="409104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BEC-DF9D-44A2-B951-1D3A388C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760" y="19414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091040"/>
            <a:ext cx="861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231-6375-4746-A3D4-8FFC60AF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861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091040"/>
            <a:ext cx="861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D75-E269-43A2-A731-09ADD265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9414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9104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760" y="409104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C0CA-4A0C-4142-9B23-8FD996CD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39920" y="19414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51240" y="19414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0910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39920" y="40910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51240" y="40910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C97-6424-47CC-ABCC-2B9AA9D5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420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941480"/>
            <a:ext cx="420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957600"/>
            <a:ext cx="761976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941480"/>
            <a:ext cx="420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9104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420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9414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9104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9414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91040"/>
            <a:ext cx="861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2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3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41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35840" indent="-277200">
              <a:lnSpc>
                <a:spcPct val="12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2280" indent="-22140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551960" indent="-221400">
              <a:lnSpc>
                <a:spcPct val="120000"/>
              </a:lnSpc>
              <a:spcBef>
                <a:spcPts val="700"/>
              </a:spcBef>
              <a:buClr>
                <a:srgbClr val="b60009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1995480" indent="-221400"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1995480" indent="-221400">
              <a:lnSpc>
                <a:spcPct val="120000"/>
              </a:lnSpc>
              <a:spcBef>
                <a:spcPts val="700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1995480" indent="-221400">
              <a:lnSpc>
                <a:spcPct val="120000"/>
              </a:lnSpc>
              <a:spcBef>
                <a:spcPts val="700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81000"/>
            <a:ext cx="8534160" cy="3682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9900"/>
                </a:solidFill>
                <a:latin typeface="隶书"/>
                <a:ea typeface="隶书"/>
              </a:rPr>
              <a:t>第</a:t>
            </a:r>
            <a:r>
              <a:rPr b="1" lang="zh-CN" sz="1800" spc="-1" strike="noStrike">
                <a:solidFill>
                  <a:srgbClr val="cc9900"/>
                </a:solidFill>
                <a:latin typeface="隶书"/>
                <a:ea typeface="隶书"/>
              </a:rPr>
              <a:t>1</a:t>
            </a:r>
            <a:r>
              <a:rPr b="1" lang="zh-CN" sz="1800" spc="-1" strike="noStrike">
                <a:solidFill>
                  <a:srgbClr val="cc9900"/>
                </a:solidFill>
                <a:latin typeface="隶书"/>
                <a:ea typeface="隶书"/>
              </a:rPr>
              <a:t>章  电子商务概述</a:t>
            </a:r>
            <a:endParaRPr b="0" lang="en-US" sz="1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00200" y="304920"/>
            <a:ext cx="1523880" cy="0"/>
          </a:xfrm>
          <a:prstGeom prst="line">
            <a:avLst/>
          </a:prstGeom>
          <a:ln w="3816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6019560" y="304920"/>
            <a:ext cx="1447560" cy="0"/>
          </a:xfrm>
          <a:prstGeom prst="line">
            <a:avLst/>
          </a:prstGeom>
          <a:ln w="3816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2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3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CB59-A151-4C0A-A2BA-A4127130190B}" type="slidenum">
              <a:rPr b="0" lang="zh-CN" sz="2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" Target="slide20.xml"/><Relationship Id="rId4" Type="http://schemas.openxmlformats.org/officeDocument/2006/relationships/slide" Target="slide32.xm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4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37.xml"/><Relationship Id="rId6" Type="http://schemas.openxmlformats.org/officeDocument/2006/relationships/slide" Target="slide37.xml"/><Relationship Id="rId7" Type="http://schemas.openxmlformats.org/officeDocument/2006/relationships/slide" Target="slide37.xml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amazon.com/" TargetMode="External"/><Relationship Id="rId2" Type="http://schemas.openxmlformats.org/officeDocument/2006/relationships/hyperlink" Target="http://www.amazon.com/" TargetMode="External"/><Relationship Id="rId3" Type="http://schemas.openxmlformats.org/officeDocument/2006/relationships/hyperlink" Target="http://www.amazon.com/" TargetMode="External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Arial"/>
              </a:rPr>
              <a:t>1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电子商务概述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213336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1" action="ppaction://hlinksldjump"/>
              </a:rPr>
              <a:t>1.1  电子商务的基本概念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2" action="ppaction://hlinksldjump"/>
              </a:rPr>
              <a:t>1.2  电子商务的发展及其对社会的影响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3" action="ppaction://hlinksldjump"/>
              </a:rPr>
              <a:t>1.3  电子商务发展中的若干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4" action="ppaction://hlinksldjump"/>
              </a:rPr>
              <a:t>1.4  电子商务典型实例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1.2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电子商务的定义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00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加拿大电子商务协会对电子商务的定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00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全球信息基础设施委员会（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GIIC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电子商务工作委员会对电子商务的定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00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联合国经济合作和发展组织（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OECD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对电子商务的定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00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IBM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公司对电子商务的定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00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HP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公司对电子商务的定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1.3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</a:rPr>
              <a:t>电子商务的分类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其中最基本的方法是按电子商务的交易对象来分类：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．企业对消费者的电子商务（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B to C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．企业对企业的电子商务（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B to B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．企业对政府的电子商务（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B to G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．消费者对消费者的电子商务（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C to C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1.4 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</a:rPr>
              <a:t>电子商务的功能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6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广告宣传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咨询洽谈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网上订购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网上支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物流服务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6.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意见征询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7.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业务管理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1.5 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</a:rPr>
              <a:t>电子商务的特点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743200" y="1904760"/>
            <a:ext cx="37339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高效性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方便性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安全性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集成性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可扩展性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2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电子商务的发展及其对社会的影响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5280" y="2057040"/>
            <a:ext cx="6858000" cy="20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1" action="ppaction://hlinksldjump"/>
              </a:rPr>
              <a:t>1.2.1  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黑体"/>
                <a:hlinkClick r:id="rId2" action="ppaction://hlinksldjump"/>
              </a:rPr>
              <a:t>电子商务的发展与展望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黑体"/>
                <a:hlinkClick r:id="rId3" action="ppaction://hlinksldjump"/>
              </a:rPr>
              <a:t>	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4" action="ppaction://hlinksldjump"/>
              </a:rPr>
              <a:t>1.2.2  我国电子商务的现状和发展趋势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5" action="ppaction://hlinksldjump"/>
              </a:rPr>
              <a:t>1.2.3  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黑体"/>
                <a:hlinkClick r:id="rId6" action="ppaction://hlinksldjump"/>
              </a:rPr>
              <a:t>电子商务对当今社会的影响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12040" y="6360840"/>
            <a:ext cx="109512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2.1 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</a:rPr>
              <a:t>电子商务的发展与展望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把电子商务的发展分为两个阶段，即始于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世纪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8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年代中期的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EDI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电子商务和始于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9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年代初期的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电子商务。现在所讲的电子商务主要是指在网络环境下，特别是在因特网上所进行的商务活动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未来的电子商务模式将以买方市场为导向，以用户需求为中心，以业务竞标为手段，依托因特网和快捷的物流布局，向全球化高速发展。未来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年内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/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的全球国际贸易将以电子商务的形式来完成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2.2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我国电子商务的现状和发展趋势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截止到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200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年底，中国的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用户数量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225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万，上网的计算机约为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89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万台，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CN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下注册的域名总数为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22099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个，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WWW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站点数约为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265405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个，我国国际线路的总容量为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2799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我国的电子证券交易网络已经覆盖全国，连接了全国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30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多家证券公司的近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270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个营业部，开户投资者超过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500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万户，最高日成交量达到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90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多亿人民币，有力地保证了我国证券市场的发展。我国部分企业几年前就开始涉足电子商务，并取得了喜人的成绩。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7521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要开展对电子商务的深层次研究，积极探讨我国电子商务发展的政策方针；要加快我国通信基础设施和有关电子商务标准化建设；要解决好电子商务的安全、法律、税收和电子支付等问题；要引导消费者转变消费的思想和观念，调动人们参与电子商务的热情；要加强电子商务的实际应用系统的推广，积极引导企业上网交易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103392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2.3 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</a:rPr>
              <a:t>电子商务对当今社会的影响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电子商务对社会经济的影响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促使全球经济的发展、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促使知识经济的发展、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促使新兴行业的产生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电子商务对政府的影响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政府的政策导向、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政府机构的业务转型、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政府机构在安全认证中的权威作用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8284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电子商务对企业的影响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电子商务改变了企业的经营方式、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电子商务改变了企业的管理模式、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电子商务改变了企业的结算支付方式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。电子商务对个人的影响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生活方面　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工作方面　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学习方面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1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电子商务的基本概念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14240" y="190476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1" action="ppaction://hlinksldjump"/>
              </a:rPr>
              <a:t>1.1.1  生活中的电子商务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2" action="ppaction://hlinksldjump"/>
              </a:rPr>
              <a:t>1.1.2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ea typeface="黑体"/>
                <a:hlinkClick r:id="rId3" action="ppaction://hlinksldjump"/>
              </a:rPr>
              <a:t>  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ea typeface="黑体"/>
                <a:hlinkClick r:id="rId4" action="ppaction://hlinksldjump"/>
              </a:rPr>
              <a:t>电子商务的定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5" action="ppaction://hlinksldjump"/>
              </a:rPr>
              <a:t>1.1.3 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ea typeface="黑体"/>
                <a:hlinkClick r:id="rId6" action="ppaction://hlinksldjump"/>
              </a:rPr>
              <a:t> 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黑体"/>
                <a:ea typeface="黑体"/>
                <a:hlinkClick r:id="rId7" action="ppaction://hlinksldjump"/>
              </a:rPr>
              <a:t>电子商务的分类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8" action="ppaction://hlinksldjump"/>
              </a:rPr>
              <a:t>1.1.4  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黑体"/>
                <a:hlinkClick r:id="rId9" action="ppaction://hlinksldjump"/>
              </a:rPr>
              <a:t>电子商务的功能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10" action="ppaction://hlinksldjump"/>
              </a:rPr>
              <a:t>1.1.5  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黑体"/>
                <a:hlinkClick r:id="rId11" action="ppaction://hlinksldjump"/>
              </a:rPr>
              <a:t>电子商务的特点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12040" y="6360840"/>
            <a:ext cx="109512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4880" y="841320"/>
            <a:ext cx="7988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3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电子商务发展中的若干问题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2209680"/>
            <a:ext cx="5943600" cy="20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1" action="ppaction://hlinksldjump"/>
              </a:rPr>
              <a:t>1.3.1  电子商务发展中的法律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2" action="ppaction://hlinksldjump"/>
              </a:rPr>
              <a:t>1.3.2  电子商务发展中的税收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3" action="ppaction://hlinksldjump"/>
              </a:rPr>
              <a:t>1.3.3  电子商务发展中的安全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12040" y="6360840"/>
            <a:ext cx="109512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3.1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电子商务发展中的法律问题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259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电子商务发展带来的法律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电子合同的法律效力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知识产权的保护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网上隐私权的保护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电子商务安全的法律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国外电子商务法律法规建设的概况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国际组织和机构所做的工作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美国政府的政策和所做的工作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欧洲及世界其他地区国家的情况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28600" y="1941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构建我国电子商务法律环境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我国电子商务法制建设应遵循的原则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我国电子商务法制建设的现状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我国电子商务法制建设中目前急需解决的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3.2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电子商务发展中的税收问题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6934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电子商务引起的税收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对纳税主体判定的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商务交易过程的可追溯性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电子商务过程的税务稽查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国外有关电子商务的税收政策和主张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新的税收体系应该是公平的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新的税收体系应力求简化，最大程度地降低税收部门的管理费用及纳税人的有关费用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对于纳税人来说，新的税收方法应具有确定性，从而使纳税人能预先确定一项交易所产生的税收后果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新的税收体系应有较高的效率，从而最大程度地制止逃、漏税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新的税收体系应力求避免产生经济扭曲，公司的决策者在制定各项决策时，应该主要受商业因素而非考虑税收的驱动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新的税收体系应具有较好的适应性，以便跟上技术与商业的发展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新的税收体系应确保网上交易税收在国与国之间的公平分配，特别是发展中国家与发达国家的公平分配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205740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电子商务发展中我国税务部门应采取的措施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制定和完善税收政策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采取有效措施对实行网络贸易的企业加强监管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积极参与制订关于电子商务的法律和法规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培养面向“网络时代”的税收专业人才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3.3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电子商务发展中的安全问题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16280" y="2017800"/>
            <a:ext cx="5572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．电子商务安全的重要性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开放性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传输协议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操作系统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信息电子化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电子商务中的安全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给电子商务带来如下的安全问题：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信息泄露    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信息篡改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信息破坏    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抵赖行为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一个电子商务系统必须做到以下几点安全控制要求：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信息的保密性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  （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信息的完整性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身份认证          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不可抵赖性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1.1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生活中的电子商务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实例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1—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网上订购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CD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（网站主页见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实例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2—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网上订花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（网站主页见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实例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3—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网上订餐 （网站主页见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实例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4—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网上订票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（网站主页见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实例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5—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网上购物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（网站主页见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5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）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实例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6—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网上交易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（网站主页见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6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）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电子商务安全的技术与法律保障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网络安全技术：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虚拟专用网技术、防火墙技术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电子商务安全交易体系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如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7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：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信息加密算法、安全认证技术、 安全交易协议。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电子商务安全的法律保护：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第一，电子商务交易首先是商品交易，其安全问题应当通过民法加以保护；第二，电子商务交易是通过计算机及其网络而实现的，其安全与否依赖于计算机及其网络自身的安全程度。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495480" y="914400"/>
            <a:ext cx="911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7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电子商务安全交易体系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600200" y="838080"/>
            <a:ext cx="4343400" cy="5257800"/>
            <a:chOff x="1600200" y="838080"/>
            <a:chExt cx="4343400" cy="5257800"/>
          </a:xfrm>
        </p:grpSpPr>
        <p:sp>
          <p:nvSpPr>
            <p:cNvPr id="160" name=""/>
            <p:cNvSpPr/>
            <p:nvPr/>
          </p:nvSpPr>
          <p:spPr>
            <a:xfrm>
              <a:off x="1600200" y="838080"/>
              <a:ext cx="4343400" cy="104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电子商务业务系统</a:t>
              </a:r>
              <a:endParaRPr b="0" lang="en-US" sz="14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电子商务支付系统</a:t>
              </a:r>
              <a:endParaRPr b="0" lang="en-US" sz="1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00200" y="2242440"/>
              <a:ext cx="4343400" cy="104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安全交易协议</a:t>
              </a:r>
              <a:endParaRPr b="0" lang="en-US" sz="14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(</a:t>
              </a:r>
              <a:r>
                <a:rPr b="1" lang="en-US" sz="1400" spc="-1" strike="noStrike">
                  <a:solidFill>
                    <a:srgbClr val="080808"/>
                  </a:solidFill>
                  <a:latin typeface="Times New Roman"/>
                </a:rPr>
                <a:t>SET</a:t>
              </a:r>
              <a:r>
                <a:rPr b="1" lang="en-US" sz="1400" spc="-1" strike="noStrike">
                  <a:solidFill>
                    <a:srgbClr val="080808"/>
                  </a:solidFill>
                  <a:latin typeface="Times New Roman"/>
                </a:rPr>
                <a:t>、</a:t>
              </a:r>
              <a:r>
                <a:rPr b="1" lang="en-US" sz="1400" spc="-1" strike="noStrike">
                  <a:solidFill>
                    <a:srgbClr val="080808"/>
                  </a:solidFill>
                  <a:latin typeface="Times New Roman"/>
                </a:rPr>
                <a:t>SSL</a:t>
              </a:r>
              <a:r>
                <a:rPr b="1" lang="en-US" sz="1400" spc="-1" strike="noStrike">
                  <a:solidFill>
                    <a:srgbClr val="080808"/>
                  </a:solidFill>
                  <a:latin typeface="Times New Roman"/>
                </a:rPr>
                <a:t>、</a:t>
              </a:r>
              <a:r>
                <a:rPr b="1" lang="en-US" sz="1400" spc="-1" strike="noStrike">
                  <a:solidFill>
                    <a:srgbClr val="080808"/>
                  </a:solidFill>
                  <a:latin typeface="Times New Roman"/>
                </a:rPr>
                <a:t>S/HTTP</a:t>
              </a:r>
              <a:r>
                <a:rPr b="1" lang="en-US" sz="1400" spc="-1" strike="noStrike">
                  <a:solidFill>
                    <a:srgbClr val="080808"/>
                  </a:solidFill>
                  <a:latin typeface="Times New Roman"/>
                </a:rPr>
                <a:t>、</a:t>
              </a:r>
              <a:r>
                <a:rPr b="1" lang="en-US" sz="1400" spc="-1" strike="noStrike">
                  <a:solidFill>
                    <a:srgbClr val="080808"/>
                  </a:solidFill>
                  <a:latin typeface="Times New Roman"/>
                </a:rPr>
                <a:t>S/MIME…)</a:t>
              </a:r>
              <a:endParaRPr b="0" lang="en-US" sz="14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00200" y="3647160"/>
              <a:ext cx="4343400" cy="104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安全认证技术</a:t>
              </a:r>
              <a:endParaRPr b="0" lang="en-US" sz="14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(</a:t>
              </a: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数字签名、数字证书、</a:t>
              </a:r>
              <a:r>
                <a:rPr b="1" lang="en-US" sz="1400" spc="-1" strike="noStrike">
                  <a:solidFill>
                    <a:srgbClr val="080808"/>
                  </a:solidFill>
                  <a:latin typeface="Times New Roman"/>
                </a:rPr>
                <a:t>CA</a:t>
              </a: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认证…</a:t>
              </a: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00200" y="5051880"/>
              <a:ext cx="4343400" cy="104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信息加密算法</a:t>
              </a:r>
              <a:endParaRPr b="0" lang="en-US" sz="14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(</a:t>
              </a: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非对称密钥加密、对称密钥加密…</a:t>
              </a: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37560" y="1891440"/>
              <a:ext cx="868320" cy="3477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37560" y="3295800"/>
              <a:ext cx="868320" cy="3477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37560" y="4700520"/>
              <a:ext cx="868320" cy="3477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61880" y="1253520"/>
              <a:ext cx="3407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4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电子商务典型实例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040" y="1941480"/>
            <a:ext cx="8077320" cy="27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1" action="ppaction://hlinksldjump"/>
              </a:rPr>
              <a:t>1.4.1  亚马逊网上书店（</a:t>
            </a:r>
            <a:r>
              <a:rPr b="1" lang="en-US" sz="2800" spc="-1" strike="noStrike" u="sng">
                <a:solidFill>
                  <a:srgbClr val="993300"/>
                </a:solidFill>
                <a:uFillTx/>
                <a:latin typeface="Arial"/>
                <a:hlinkClick r:id="rId2" action="ppaction://hlinksldjump"/>
              </a:rPr>
              <a:t>www.</a:t>
            </a:r>
            <a:r>
              <a:rPr b="1" lang="en-US" sz="2800" spc="-1" strike="noStrike" u="sng">
                <a:solidFill>
                  <a:srgbClr val="993300"/>
                </a:solidFill>
                <a:uFillTx/>
                <a:latin typeface="Arial"/>
                <a:hlinkClick r:id="rId3" action="ppaction://hlinksldjump"/>
              </a:rPr>
              <a:t>amazon</a:t>
            </a:r>
            <a:r>
              <a:rPr b="1" lang="en-US" sz="2800" spc="-1" strike="noStrike" u="sng">
                <a:solidFill>
                  <a:srgbClr val="993300"/>
                </a:solidFill>
                <a:uFillTx/>
                <a:latin typeface="Arial"/>
                <a:hlinkClick r:id="rId4" action="ppaction://hlinksldjump"/>
              </a:rPr>
              <a:t>.com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3300"/>
                </a:solidFill>
                <a:uFillTx/>
                <a:latin typeface="Arial"/>
                <a:hlinkClick r:id="rId5" action="ppaction://hlinksldjump"/>
              </a:rPr>
              <a:t>1.4.2  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6" action="ppaction://hlinksldjump"/>
              </a:rPr>
              <a:t>戴尔计算机公司（</a:t>
            </a:r>
            <a:r>
              <a:rPr b="1" lang="en-US" sz="2800" spc="-1" strike="noStrike" u="sng">
                <a:solidFill>
                  <a:srgbClr val="993300"/>
                </a:solidFill>
                <a:uFillTx/>
                <a:latin typeface="Arial"/>
                <a:hlinkClick r:id="rId7" action="ppaction://hlinksldjump"/>
              </a:rPr>
              <a:t>www.dell.com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412040" y="6360840"/>
            <a:ext cx="109512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9025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1.4.1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亚马逊网上书店（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Arial"/>
                <a:hlinkClick r:id="rId1"/>
              </a:rPr>
              <a:t>www.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Arial"/>
                <a:hlinkClick r:id="rId2"/>
              </a:rPr>
              <a:t>amazon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Arial"/>
                <a:hlinkClick r:id="rId3"/>
              </a:rPr>
              <a:t>.com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亚马逊书店概况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（其网站主页如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8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）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2.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主页结构及特点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如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9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1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亚马逊书店的经营策略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新—技术设备和系统功能不断更新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快—搜索、购买与送货快速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实—实惠的折扣价格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全—全方位提供服务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05120" y="630864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660033"/>
                </a:solidFill>
                <a:latin typeface="Times New Roman"/>
              </a:rPr>
              <a:t>1-9  </a:t>
            </a:r>
            <a:r>
              <a:rPr b="1" lang="zh-CN" sz="2000" spc="-1" strike="noStrike">
                <a:solidFill>
                  <a:srgbClr val="660033"/>
                </a:solidFill>
                <a:latin typeface="Times New Roman"/>
              </a:rPr>
              <a:t>亚马逊书店网站主页结构图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371600" y="304920"/>
            <a:ext cx="6400800" cy="5790600"/>
            <a:chOff x="1371600" y="304920"/>
            <a:chExt cx="6400800" cy="5790600"/>
          </a:xfrm>
        </p:grpSpPr>
        <p:grpSp>
          <p:nvGrpSpPr>
            <p:cNvPr id="175" name=""/>
            <p:cNvGrpSpPr/>
            <p:nvPr/>
          </p:nvGrpSpPr>
          <p:grpSpPr>
            <a:xfrm>
              <a:off x="1371600" y="1199160"/>
              <a:ext cx="739800" cy="1881360"/>
              <a:chOff x="1371600" y="1199160"/>
              <a:chExt cx="739800" cy="1881360"/>
            </a:xfrm>
          </p:grpSpPr>
          <p:sp>
            <p:nvSpPr>
              <p:cNvPr id="176" name=""/>
              <p:cNvSpPr/>
              <p:nvPr/>
            </p:nvSpPr>
            <p:spPr>
              <a:xfrm>
                <a:off x="1371600" y="1199160"/>
                <a:ext cx="497520" cy="188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80808"/>
                    </a:solidFill>
                    <a:latin typeface="Times New Roman"/>
                  </a:rPr>
                  <a:t>亚马逊书店主页</a:t>
                </a:r>
                <a:endParaRPr b="0" lang="en-US" sz="12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69120" y="2139840"/>
                <a:ext cx="24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2095200" y="964440"/>
              <a:ext cx="0" cy="39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5200" y="964440"/>
              <a:ext cx="26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3040" y="304920"/>
              <a:ext cx="446400" cy="11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发货后勤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108160" y="1563120"/>
              <a:ext cx="703800" cy="647280"/>
              <a:chOff x="2108160" y="1563120"/>
              <a:chExt cx="703800" cy="647280"/>
            </a:xfrm>
          </p:grpSpPr>
          <p:sp>
            <p:nvSpPr>
              <p:cNvPr id="182" name=""/>
              <p:cNvSpPr/>
              <p:nvPr/>
            </p:nvSpPr>
            <p:spPr>
              <a:xfrm>
                <a:off x="2108160" y="1905120"/>
                <a:ext cx="26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365560" y="1563120"/>
                <a:ext cx="446400" cy="647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80808"/>
                    </a:solidFill>
                    <a:latin typeface="Times New Roman"/>
                  </a:rPr>
                  <a:t>产品</a:t>
                </a:r>
                <a:endParaRPr b="0" lang="en-US" sz="12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108160" y="3310200"/>
              <a:ext cx="716760" cy="586440"/>
              <a:chOff x="2108160" y="3310200"/>
              <a:chExt cx="716760" cy="586440"/>
            </a:xfrm>
          </p:grpSpPr>
          <p:sp>
            <p:nvSpPr>
              <p:cNvPr id="185" name=""/>
              <p:cNvSpPr/>
              <p:nvPr/>
            </p:nvSpPr>
            <p:spPr>
              <a:xfrm>
                <a:off x="2108160" y="3615480"/>
                <a:ext cx="26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78520" y="3310200"/>
                <a:ext cx="44640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80808"/>
                    </a:solidFill>
                    <a:latin typeface="Times New Roman"/>
                  </a:rPr>
                  <a:t>促销</a:t>
                </a:r>
                <a:endParaRPr b="0" lang="en-US" sz="12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108160" y="4605120"/>
              <a:ext cx="716760" cy="647280"/>
              <a:chOff x="2108160" y="4605120"/>
              <a:chExt cx="716760" cy="647280"/>
            </a:xfrm>
          </p:grpSpPr>
          <p:sp>
            <p:nvSpPr>
              <p:cNvPr id="188" name=""/>
              <p:cNvSpPr/>
              <p:nvPr/>
            </p:nvSpPr>
            <p:spPr>
              <a:xfrm>
                <a:off x="2108160" y="4947120"/>
                <a:ext cx="26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78520" y="4605120"/>
                <a:ext cx="446400" cy="647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80808"/>
                    </a:solidFill>
                    <a:latin typeface="Times New Roman"/>
                  </a:rPr>
                  <a:t>服务</a:t>
                </a:r>
                <a:endParaRPr b="0" lang="en-US" sz="12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809800" y="1917360"/>
              <a:ext cx="35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62800" y="1123200"/>
              <a:ext cx="0" cy="161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9440" y="1599840"/>
              <a:ext cx="446400" cy="64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音乐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62800" y="273600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62800" y="112320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720000"/>
              <a:ext cx="446400" cy="64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书籍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82040" y="2357280"/>
              <a:ext cx="446400" cy="64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影视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13320" y="1929960"/>
              <a:ext cx="42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30400" y="1147680"/>
              <a:ext cx="0" cy="156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625560" y="271152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613320" y="1147680"/>
              <a:ext cx="20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34520" y="1392120"/>
              <a:ext cx="0" cy="10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021560" y="1392120"/>
              <a:ext cx="20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034520" y="1929960"/>
              <a:ext cx="20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034520" y="2455200"/>
              <a:ext cx="20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932280" y="683640"/>
              <a:ext cx="1824120" cy="37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计算机和网络书籍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13320" y="928080"/>
              <a:ext cx="33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38280" y="1233360"/>
              <a:ext cx="1824120" cy="37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畅销作品和排行版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38280" y="1746360"/>
              <a:ext cx="1071360" cy="37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获奖作品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38280" y="2247480"/>
              <a:ext cx="2002680" cy="37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儿童书籍和音像制品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22960" y="19540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41320" y="246744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56760" y="879120"/>
              <a:ext cx="5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30600" y="879120"/>
              <a:ext cx="0" cy="158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30600" y="1697760"/>
              <a:ext cx="19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22120" y="1501920"/>
              <a:ext cx="1250280" cy="35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具体作品简介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22400" y="3640320"/>
              <a:ext cx="22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52080" y="3200400"/>
              <a:ext cx="0" cy="89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52080" y="3200400"/>
              <a:ext cx="28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52080" y="3640320"/>
              <a:ext cx="28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52080" y="4079880"/>
              <a:ext cx="28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19920" y="3053880"/>
              <a:ext cx="94392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礼品赠送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32880" y="3493440"/>
              <a:ext cx="1517760" cy="36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中间商和合作伙伴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32880" y="3921120"/>
              <a:ext cx="905400" cy="36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商品打折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22400" y="4959720"/>
              <a:ext cx="20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00960" y="4507560"/>
              <a:ext cx="0" cy="139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00960" y="4507560"/>
              <a:ext cx="22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30640" y="4348800"/>
              <a:ext cx="1249920" cy="36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首次用户指南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3000960" y="5729400"/>
              <a:ext cx="2194200" cy="366120"/>
              <a:chOff x="3000960" y="5729400"/>
              <a:chExt cx="2194200" cy="366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000960" y="5900400"/>
                <a:ext cx="24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245040" y="5729400"/>
                <a:ext cx="1950120" cy="366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80808"/>
                    </a:solidFill>
                    <a:latin typeface="Times New Roman"/>
                  </a:rPr>
                  <a:t>安全保证和电子支付系统</a:t>
                </a:r>
                <a:endParaRPr b="0" lang="en-US" sz="12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3026520" y="495972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82480" y="4788720"/>
              <a:ext cx="59832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搜索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013560" y="5216400"/>
              <a:ext cx="1198800" cy="366120"/>
              <a:chOff x="3013560" y="5216400"/>
              <a:chExt cx="1198800" cy="366120"/>
            </a:xfrm>
          </p:grpSpPr>
          <p:sp>
            <p:nvSpPr>
              <p:cNvPr id="234" name=""/>
              <p:cNvSpPr/>
              <p:nvPr/>
            </p:nvSpPr>
            <p:spPr>
              <a:xfrm>
                <a:off x="3013560" y="5399640"/>
                <a:ext cx="28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282120" y="5216400"/>
                <a:ext cx="930240" cy="366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80808"/>
                    </a:solidFill>
                    <a:latin typeface="Times New Roman"/>
                  </a:rPr>
                  <a:t>新闻发布</a:t>
                </a:r>
                <a:endParaRPr b="0" lang="en-US" sz="12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881160" y="4984200"/>
              <a:ext cx="7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72080" y="4581000"/>
              <a:ext cx="0" cy="86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72080" y="45810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72080" y="49842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72080" y="54360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77280" y="5265000"/>
              <a:ext cx="598320" cy="36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类别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64320" y="4825440"/>
              <a:ext cx="59832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作者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51720" y="4312080"/>
              <a:ext cx="59832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主题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00200" y="56386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10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亚马逊书店网站书籍销售页面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003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11940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577040" cy="34225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838080" y="5562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8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亚马逊书店网站的主页（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ww.amazon.com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560" y="902520"/>
            <a:ext cx="883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1.4.2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戴尔计算机公司（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www.dell.com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戴尔公司概况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戴尔公司是世界上最成功的采用网络直销的计算机公司（其主页如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1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1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）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主页结构与特点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除了全面的营销功能和服务功能外，它还在网上提供了生产活动中的两个重要的职能—生产设计和产品客户化。从戴尔公司主页结构中可以体现这些具体的应用，如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1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。戴尔公司提供了一种特殊的网上用户计算机设计网页，如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1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。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87640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4667400" cy="34876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5562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11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戴尔公司网站的英文主页（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ww.dell.com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06668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12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戴尔公司网站的中文主页（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ww.dell.com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6704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438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38080" y="5638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1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中国音像信息中心网站主页（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ww.cnnav.com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90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105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546320" y="121932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13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戴尔公司网站主页结构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946080" y="228600"/>
            <a:ext cx="5378400" cy="6324480"/>
            <a:chOff x="946080" y="228600"/>
            <a:chExt cx="5378400" cy="6324480"/>
          </a:xfrm>
        </p:grpSpPr>
        <p:sp>
          <p:nvSpPr>
            <p:cNvPr id="261" name=""/>
            <p:cNvSpPr/>
            <p:nvPr/>
          </p:nvSpPr>
          <p:spPr>
            <a:xfrm>
              <a:off x="946080" y="2895480"/>
              <a:ext cx="685800" cy="961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0808"/>
                  </a:solidFill>
                  <a:latin typeface="Times New Roman"/>
                </a:rPr>
                <a:t>Dell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计算机    公司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主页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42320" y="3362040"/>
              <a:ext cx="22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17440" y="514440"/>
              <a:ext cx="13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17440" y="866520"/>
              <a:ext cx="13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17440" y="1305000"/>
              <a:ext cx="13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17440" y="1685880"/>
              <a:ext cx="13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67320" y="1162440"/>
              <a:ext cx="257040" cy="1080"/>
            </a:xfrm>
            <a:custGeom>
              <a:avLst/>
              <a:gdLst/>
              <a:ahLst/>
              <a:rect l="l" t="t" r="r" b="b"/>
              <a:pathLst>
                <a:path w="360" h="2">
                  <a:moveTo>
                    <a:pt x="0" y="2"/>
                  </a:moveTo>
                  <a:lnTo>
                    <a:pt x="3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03120" y="990360"/>
              <a:ext cx="57852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产品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81640" y="1133280"/>
              <a:ext cx="23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917440" y="504360"/>
              <a:ext cx="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56760" y="333360"/>
              <a:ext cx="71784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笔记本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56760" y="723960"/>
              <a:ext cx="71784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台式机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5960" y="1162080"/>
              <a:ext cx="71784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工作站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56760" y="1552320"/>
              <a:ext cx="71784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服务器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85400" y="90468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30120" y="485640"/>
              <a:ext cx="1548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35160" y="495000"/>
              <a:ext cx="0" cy="12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85280" y="295200"/>
              <a:ext cx="127692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家用和办公室用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（</a:t>
              </a:r>
              <a:r>
                <a:rPr b="1" lang="en-US" sz="1000" spc="-1" strike="noStrike">
                  <a:solidFill>
                    <a:srgbClr val="080808"/>
                  </a:solidFill>
                  <a:latin typeface="Times New Roman"/>
                </a:rPr>
                <a:t>DIMENTION</a:t>
              </a:r>
              <a:r>
                <a:rPr b="1" lang="en-US" sz="1000" spc="-1" strike="noStrike">
                  <a:solidFill>
                    <a:srgbClr val="080808"/>
                  </a:solidFill>
                  <a:latin typeface="Times New Roman"/>
                </a:rPr>
                <a:t>）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73360" y="522000"/>
              <a:ext cx="147600" cy="3600"/>
            </a:xfrm>
            <a:custGeom>
              <a:avLst/>
              <a:gdLst/>
              <a:ahLst/>
              <a:rect l="l" t="t" r="r" b="b"/>
              <a:pathLst>
                <a:path w="207" h="6">
                  <a:moveTo>
                    <a:pt x="0" y="0"/>
                  </a:moveTo>
                  <a:lnTo>
                    <a:pt x="207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18800" y="314280"/>
              <a:ext cx="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18800" y="315360"/>
              <a:ext cx="141120" cy="720"/>
            </a:xfrm>
            <a:custGeom>
              <a:avLst/>
              <a:gdLst/>
              <a:ahLst/>
              <a:rect l="l" t="t" r="r" b="b"/>
              <a:pathLst>
                <a:path w="198" h="1">
                  <a:moveTo>
                    <a:pt x="0" y="0"/>
                  </a:moveTo>
                  <a:lnTo>
                    <a:pt x="198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29600" y="715320"/>
              <a:ext cx="141120" cy="720"/>
            </a:xfrm>
            <a:custGeom>
              <a:avLst/>
              <a:gdLst/>
              <a:ahLst/>
              <a:rect l="l" t="t" r="r" b="b"/>
              <a:pathLst>
                <a:path w="198" h="1">
                  <a:moveTo>
                    <a:pt x="0" y="0"/>
                  </a:moveTo>
                  <a:lnTo>
                    <a:pt x="198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63160" y="228600"/>
              <a:ext cx="66132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0808"/>
                  </a:solidFill>
                  <a:latin typeface="Times New Roman"/>
                </a:rPr>
                <a:t>R</a:t>
              </a: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系列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74680" y="600120"/>
              <a:ext cx="63900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0808"/>
                  </a:solidFill>
                  <a:latin typeface="Times New Roman"/>
                </a:rPr>
                <a:t>V</a:t>
              </a: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系列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35160" y="169524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45960" y="114300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96080" y="895320"/>
              <a:ext cx="130716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工业用带网络环境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（</a:t>
              </a:r>
              <a:r>
                <a:rPr b="1" lang="en-US" sz="1000" spc="-1" strike="noStrike">
                  <a:solidFill>
                    <a:srgbClr val="080808"/>
                  </a:solidFill>
                  <a:latin typeface="Times New Roman"/>
                </a:rPr>
                <a:t>OPTIPLEX</a:t>
              </a:r>
              <a:r>
                <a:rPr b="1" lang="en-US" sz="1000" spc="-1" strike="noStrike">
                  <a:solidFill>
                    <a:srgbClr val="080808"/>
                  </a:solidFill>
                  <a:latin typeface="Times New Roman"/>
                </a:rPr>
                <a:t>）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09400" y="1504800"/>
              <a:ext cx="12855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0808"/>
                  </a:solidFill>
                  <a:latin typeface="Times New Roman"/>
                </a:rPr>
                <a:t>D</a:t>
              </a: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型和</a:t>
              </a:r>
              <a:r>
                <a:rPr b="1" lang="en-US" sz="1000" spc="-1" strike="noStrike">
                  <a:solidFill>
                    <a:srgbClr val="080808"/>
                  </a:solidFill>
                  <a:latin typeface="Times New Roman"/>
                </a:rPr>
                <a:t>O</a:t>
              </a: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型比较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5960" y="248580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67320" y="2467440"/>
              <a:ext cx="192600" cy="1080"/>
            </a:xfrm>
            <a:custGeom>
              <a:avLst/>
              <a:gdLst/>
              <a:ahLst/>
              <a:rect l="l" t="t" r="r" b="b"/>
              <a:pathLst>
                <a:path w="270" h="2">
                  <a:moveTo>
                    <a:pt x="0" y="2"/>
                  </a:move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49480" y="2228760"/>
              <a:ext cx="803520" cy="49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产品定价和购买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53000" y="2485800"/>
              <a:ext cx="18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5160" y="206676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3045960" y="1895400"/>
              <a:ext cx="1542600" cy="314280"/>
              <a:chOff x="3045960" y="1895400"/>
              <a:chExt cx="1542600" cy="314280"/>
            </a:xfrm>
          </p:grpSpPr>
          <p:sp>
            <p:nvSpPr>
              <p:cNvPr id="295" name=""/>
              <p:cNvSpPr/>
              <p:nvPr/>
            </p:nvSpPr>
            <p:spPr>
              <a:xfrm>
                <a:off x="3045960" y="2066760"/>
                <a:ext cx="19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38560" y="1895400"/>
                <a:ext cx="135000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080808"/>
                    </a:solidFill>
                    <a:latin typeface="Times New Roman"/>
                  </a:rPr>
                  <a:t>一般产品的价目表</a:t>
                </a:r>
                <a:endParaRPr b="0" lang="en-US" sz="10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3230280" y="2315160"/>
              <a:ext cx="1735560" cy="3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用户自定义设计订货流程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3035160" y="2734200"/>
              <a:ext cx="1191240" cy="314280"/>
              <a:chOff x="3035160" y="2734200"/>
              <a:chExt cx="1191240" cy="314280"/>
            </a:xfrm>
          </p:grpSpPr>
          <p:sp>
            <p:nvSpPr>
              <p:cNvPr id="299" name=""/>
              <p:cNvSpPr/>
              <p:nvPr/>
            </p:nvSpPr>
            <p:spPr>
              <a:xfrm>
                <a:off x="3035160" y="2885760"/>
                <a:ext cx="19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229920" y="2734200"/>
                <a:ext cx="99648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080808"/>
                    </a:solidFill>
                    <a:latin typeface="Times New Roman"/>
                  </a:rPr>
                  <a:t>零件购买</a:t>
                </a:r>
                <a:endParaRPr b="0" lang="en-US" sz="10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2070720" y="4086000"/>
              <a:ext cx="535680" cy="28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营销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78120" y="4248720"/>
              <a:ext cx="192600" cy="1080"/>
            </a:xfrm>
            <a:custGeom>
              <a:avLst/>
              <a:gdLst/>
              <a:ahLst/>
              <a:rect l="l" t="t" r="r" b="b"/>
              <a:pathLst>
                <a:path w="270" h="2">
                  <a:moveTo>
                    <a:pt x="0" y="2"/>
                  </a:move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06760" y="42386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10160" y="3364200"/>
              <a:ext cx="360" cy="1400040"/>
            </a:xfrm>
            <a:custGeom>
              <a:avLst/>
              <a:gdLst/>
              <a:ahLst/>
              <a:rect l="l" t="t" r="r" b="b"/>
              <a:pathLst>
                <a:path w="1" h="2205">
                  <a:moveTo>
                    <a:pt x="0" y="0"/>
                  </a:moveTo>
                  <a:lnTo>
                    <a:pt x="0" y="220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2810160" y="3085920"/>
              <a:ext cx="2101320" cy="552240"/>
              <a:chOff x="2810160" y="3085920"/>
              <a:chExt cx="2101320" cy="552240"/>
            </a:xfrm>
          </p:grpSpPr>
          <p:sp>
            <p:nvSpPr>
              <p:cNvPr id="306" name=""/>
              <p:cNvSpPr/>
              <p:nvPr/>
            </p:nvSpPr>
            <p:spPr>
              <a:xfrm>
                <a:off x="2810160" y="3352320"/>
                <a:ext cx="16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49120" y="3209760"/>
                <a:ext cx="760680" cy="285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080808"/>
                    </a:solidFill>
                    <a:latin typeface="Times New Roman"/>
                  </a:rPr>
                  <a:t>公共关系</a:t>
                </a:r>
                <a:endParaRPr b="0" lang="en-US" sz="10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20600" y="3352320"/>
                <a:ext cx="16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870720" y="320976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870720" y="3209760"/>
                <a:ext cx="26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881160" y="3533400"/>
                <a:ext cx="26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138560" y="3085920"/>
                <a:ext cx="76032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080808"/>
                    </a:solidFill>
                    <a:latin typeface="Times New Roman"/>
                  </a:rPr>
                  <a:t>公司信息</a:t>
                </a:r>
                <a:endParaRPr b="0" lang="en-US" sz="10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151160" y="3390480"/>
                <a:ext cx="76032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080808"/>
                    </a:solidFill>
                    <a:latin typeface="Times New Roman"/>
                  </a:rPr>
                  <a:t>新闻发布</a:t>
                </a:r>
                <a:endParaRPr b="0" lang="en-US" sz="10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2820960" y="4609800"/>
              <a:ext cx="2091960" cy="285840"/>
              <a:chOff x="2820960" y="4609800"/>
              <a:chExt cx="2091960" cy="28584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2820960" y="4609800"/>
                <a:ext cx="924120" cy="285840"/>
                <a:chOff x="2820960" y="4609800"/>
                <a:chExt cx="924120" cy="2858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2820960" y="4752720"/>
                  <a:ext cx="16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660033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984400" y="4609800"/>
                  <a:ext cx="760680" cy="28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080808"/>
                      </a:solidFill>
                      <a:latin typeface="Times New Roman"/>
                    </a:rPr>
                    <a:t>广  告</a:t>
                  </a:r>
                  <a:endParaRPr b="0" lang="en-US" sz="1000" spc="-1" strike="noStrike">
                    <a:solidFill>
                      <a:srgbClr val="6600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3742200" y="4743000"/>
                <a:ext cx="27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023720" y="4609800"/>
                <a:ext cx="889200" cy="285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080808"/>
                    </a:solidFill>
                    <a:latin typeface="Times New Roman"/>
                  </a:rPr>
                  <a:t>幻灯片介绍</a:t>
                </a:r>
                <a:endParaRPr b="0" lang="en-US" sz="10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1867320" y="5239080"/>
              <a:ext cx="214200" cy="1080"/>
            </a:xfrm>
            <a:custGeom>
              <a:avLst/>
              <a:gdLst/>
              <a:ahLst/>
              <a:rect l="l" t="t" r="r" b="b"/>
              <a:pathLst>
                <a:path w="300" h="2">
                  <a:moveTo>
                    <a:pt x="0" y="2"/>
                  </a:moveTo>
                  <a:lnTo>
                    <a:pt x="3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49480" y="5067000"/>
              <a:ext cx="113580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技术支持和服务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85280" y="521964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88680" y="5086440"/>
              <a:ext cx="1440" cy="1325520"/>
            </a:xfrm>
            <a:custGeom>
              <a:avLst/>
              <a:gdLst/>
              <a:ahLst/>
              <a:rect l="l" t="t" r="r" b="b"/>
              <a:pathLst>
                <a:path w="2" h="2088">
                  <a:moveTo>
                    <a:pt x="2" y="0"/>
                  </a:moveTo>
                  <a:lnTo>
                    <a:pt x="0" y="20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88680" y="50864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99480" y="5543640"/>
              <a:ext cx="21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88680" y="60008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88680" y="640080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92440" y="4962600"/>
              <a:ext cx="53532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查询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13680" y="5400360"/>
              <a:ext cx="113580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用户问题解答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02880" y="5848200"/>
              <a:ext cx="113580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软件升级的通知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02880" y="6257880"/>
              <a:ext cx="170352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用户网上产品自定义设计     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28120" y="5124240"/>
              <a:ext cx="84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963680" y="4991040"/>
              <a:ext cx="0" cy="10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63680" y="4991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63680" y="52959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63680" y="56577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63680" y="599112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70320" y="5848200"/>
              <a:ext cx="760680" cy="26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公司信息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80760" y="5514840"/>
              <a:ext cx="760680" cy="26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技术服务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70320" y="5181480"/>
              <a:ext cx="760680" cy="26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硬  件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80760" y="4838760"/>
              <a:ext cx="760680" cy="26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软  件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95960" y="3964320"/>
              <a:ext cx="720" cy="114120"/>
            </a:xfrm>
            <a:custGeom>
              <a:avLst/>
              <a:gdLst/>
              <a:ahLst/>
              <a:rect l="l" t="t" r="r" b="b"/>
              <a:pathLst>
                <a:path w="1" h="180">
                  <a:moveTo>
                    <a:pt x="0" y="18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70840" y="3973680"/>
              <a:ext cx="720" cy="104400"/>
            </a:xfrm>
            <a:custGeom>
              <a:avLst/>
              <a:gdLst/>
              <a:ahLst/>
              <a:rect l="l" t="t" r="r" b="b"/>
              <a:pathLst>
                <a:path w="1" h="165">
                  <a:moveTo>
                    <a:pt x="0" y="16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2820960" y="3705120"/>
              <a:ext cx="3452760" cy="840600"/>
              <a:chOff x="2820960" y="3705120"/>
              <a:chExt cx="3452760" cy="840600"/>
            </a:xfrm>
          </p:grpSpPr>
          <p:sp>
            <p:nvSpPr>
              <p:cNvPr id="345" name=""/>
              <p:cNvSpPr/>
              <p:nvPr/>
            </p:nvSpPr>
            <p:spPr>
              <a:xfrm>
                <a:off x="2820960" y="4066920"/>
                <a:ext cx="16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52000" y="3905280"/>
                <a:ext cx="760680" cy="285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080808"/>
                    </a:solidFill>
                    <a:latin typeface="Times New Roman"/>
                  </a:rPr>
                  <a:t>市场细分</a:t>
                </a:r>
                <a:endParaRPr b="0" lang="en-US" sz="10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3710160" y="3705120"/>
                <a:ext cx="2563560" cy="840600"/>
                <a:chOff x="3710160" y="3705120"/>
                <a:chExt cx="2563560" cy="840600"/>
              </a:xfrm>
            </p:grpSpPr>
            <p:grpSp>
              <p:nvGrpSpPr>
                <p:cNvPr id="348" name=""/>
                <p:cNvGrpSpPr/>
                <p:nvPr/>
              </p:nvGrpSpPr>
              <p:grpSpPr>
                <a:xfrm>
                  <a:off x="3710160" y="3705120"/>
                  <a:ext cx="2563560" cy="840600"/>
                  <a:chOff x="3710160" y="3705120"/>
                  <a:chExt cx="2563560" cy="840600"/>
                </a:xfrm>
              </p:grpSpPr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3710160" y="3705120"/>
                    <a:ext cx="2563560" cy="840600"/>
                    <a:chOff x="3710160" y="3705120"/>
                    <a:chExt cx="2563560" cy="84060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4109400" y="3705120"/>
                      <a:ext cx="760680" cy="266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小公司</a:t>
                      </a:r>
                      <a:endParaRPr b="0" lang="en-US" sz="1000" spc="-1" strike="noStrike">
                        <a:solidFill>
                          <a:srgbClr val="66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4966560" y="3724200"/>
                      <a:ext cx="760680" cy="247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大公司</a:t>
                      </a:r>
                      <a:endParaRPr b="0" lang="en-US" sz="1000" spc="-1" strike="noStrike">
                        <a:solidFill>
                          <a:srgbClr val="66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4677120" y="4162320"/>
                      <a:ext cx="760680" cy="266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政  府</a:t>
                      </a:r>
                      <a:endParaRPr b="0" lang="en-US" sz="1000" spc="-1" strike="noStrike">
                        <a:solidFill>
                          <a:srgbClr val="66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5513040" y="4171680"/>
                      <a:ext cx="760680" cy="24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家  用</a:t>
                      </a:r>
                      <a:endParaRPr b="0" lang="en-US" sz="1000" spc="-1" strike="noStrike">
                        <a:solidFill>
                          <a:srgbClr val="66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3841200" y="4162320"/>
                      <a:ext cx="760680" cy="266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教  育</a:t>
                      </a:r>
                      <a:endParaRPr b="0" lang="en-US" sz="1000" spc="-1" strike="noStrike">
                        <a:solidFill>
                          <a:srgbClr val="66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3710160" y="4078440"/>
                      <a:ext cx="159624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35" h="1">
                          <a:moveTo>
                            <a:pt x="0" y="0"/>
                          </a:moveTo>
                          <a:lnTo>
                            <a:pt x="2235" y="1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3774240" y="4545360"/>
                      <a:ext cx="21643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30" h="1">
                          <a:moveTo>
                            <a:pt x="0" y="0"/>
                          </a:moveTo>
                          <a:lnTo>
                            <a:pt x="3030" y="1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7" name=""/>
                  <p:cNvSpPr/>
                  <p:nvPr/>
                </p:nvSpPr>
                <p:spPr>
                  <a:xfrm>
                    <a:off x="5938560" y="4421520"/>
                    <a:ext cx="36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95">
                        <a:moveTo>
                          <a:pt x="0" y="195"/>
                        </a:move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6600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4202640" y="4421520"/>
                    <a:ext cx="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95">
                        <a:moveTo>
                          <a:pt x="0" y="195"/>
                        </a:move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6600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5038560" y="4430880"/>
                    <a:ext cx="36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5">
                        <a:moveTo>
                          <a:pt x="0" y="165"/>
                        </a:move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660033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0" name=""/>
                <p:cNvSpPr/>
                <p:nvPr/>
              </p:nvSpPr>
              <p:spPr>
                <a:xfrm>
                  <a:off x="3774240" y="4088160"/>
                  <a:ext cx="360" cy="457200"/>
                </a:xfrm>
                <a:custGeom>
                  <a:avLst/>
                  <a:gdLst/>
                  <a:ahLst/>
                  <a:rect l="l" t="t" r="r" b="b"/>
                  <a:pathLst>
                    <a:path w="1" h="720">
                      <a:moveTo>
                        <a:pt x="0" y="0"/>
                      </a:moveTo>
                      <a:lnTo>
                        <a:pt x="0" y="72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6600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1" name=""/>
            <p:cNvSpPr/>
            <p:nvPr/>
          </p:nvSpPr>
          <p:spPr>
            <a:xfrm>
              <a:off x="1856880" y="1163880"/>
              <a:ext cx="360" cy="4086000"/>
            </a:xfrm>
            <a:custGeom>
              <a:avLst/>
              <a:gdLst/>
              <a:ahLst/>
              <a:rect l="l" t="t" r="r" b="b"/>
              <a:pathLst>
                <a:path w="1" h="6435">
                  <a:moveTo>
                    <a:pt x="0" y="0"/>
                  </a:moveTo>
                  <a:lnTo>
                    <a:pt x="0" y="64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914400" y="54864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14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戴尔公司网站用户产品自定义设计网页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96244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5791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8534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经营销售活动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产品策略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定价策略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促销策略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服务和技术支持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戴尔公司提供广泛的增值服务，包括安装支持和系统管理，并在技术方面为客户提供指导服务（戴尔公司网站的技术服务网页如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15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）。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209680" y="5334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15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戴尔公司网站的技术服务网页 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1472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410440" cy="34290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1155960"/>
            <a:ext cx="7391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THANK YOU VERY MUCH </a:t>
            </a: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！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c1c1c"/>
                </a:solidFill>
                <a:latin typeface="Arial"/>
              </a:rPr>
              <a:t>本章到此结束，</a:t>
            </a:r>
            <a:endParaRPr b="1" lang="en-US" sz="5400" spc="-1" strike="noStrike">
              <a:solidFill>
                <a:srgbClr val="1c1c1c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c1c1c"/>
                </a:solidFill>
                <a:latin typeface="Arial"/>
              </a:rPr>
              <a:t>谢谢您的光临！</a:t>
            </a:r>
            <a:endParaRPr b="1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">
            <a:hlinkClick r:id="" action="ppaction://hlinkshowjump?jump=endshow"/>
          </p:cNvPr>
          <p:cNvSpPr/>
          <p:nvPr/>
        </p:nvSpPr>
        <p:spPr>
          <a:xfrm>
            <a:off x="5919840" y="638280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412040" y="6360840"/>
            <a:ext cx="109512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5334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2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上海正广和网上购物中心主页（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ww.85818.com.cn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316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410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5756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5181840" cy="3873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47920" y="54864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3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永和大王网上快餐店主页（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ww.yonghe.com.cn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5638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4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华夏旅游网站主页（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ww.ctn.com.cn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2436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562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90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062680" cy="3792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94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5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青岛海尔集团网站主页（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ww.haier.com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1932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181480" cy="3878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90720" y="5562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6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阿里巴巴商务网站主页（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ww.alibaba.com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6T04:11:56Z</dcterms:created>
  <dc:creator>li</dc:creator>
  <dc:description/>
  <dc:language>en-US</dc:language>
  <cp:lastModifiedBy>新人电脑</cp:lastModifiedBy>
  <dcterms:modified xsi:type="dcterms:W3CDTF">2002-02-01T03:53:10Z</dcterms:modified>
  <cp:revision>28</cp:revision>
  <dc:subject/>
  <dc:title>第1章  电子商务概述 </dc:title>
</cp:coreProperties>
</file>